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EB9-C440-42B4-8D71-2865CFFE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BAE-DFB3-402E-A960-8BAF707C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3CBF8-BDC7-4668-8D02-1E892432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86015-12E9-4693-85E5-0E7A24D1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2E6F-B30D-4F6C-9929-169B493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46493-5A65-4201-9DF8-9E827F52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FDEB1-0DD3-4EA4-AB3A-DE5F8BC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747B-0A82-47AC-B089-B0CDADB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DAF4E-DB0F-4043-AC6A-15DD1137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FA465-4737-4094-AD3E-EF94170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56D73-9777-431D-A181-6C44D58C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4F3F2-7574-4E2C-97F4-589D37E3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00C-B378-4D0B-84E4-2E037BEB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A5890-A021-4B3B-B23A-26616CB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314F-9195-483D-8963-992DC3DD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0059-00DF-4FAC-876B-7EB3359E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12281-2134-48DD-8634-6688F93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CAD1F-BA13-4CD0-898A-486B159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10D5B-063F-43CA-83A7-B2CE1954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6253A-C118-4622-894C-A14EE3A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D875F-7239-4AE1-9872-2DB429A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C1452-79F0-4143-A43F-D9863F5C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F908-9CF5-447A-9DD5-DD86BA35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8DC-6DCB-4C05-98C8-6D94B3F3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327F6-7AEE-4F2A-934D-BB64C9A7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1FA88-8DAC-484B-98DD-0DB366CA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E9E60-E119-417E-BABA-F915AFC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266B5-6739-42AE-813F-B9C1E4A9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9AE5-CA0F-4B24-B532-9CF1157C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3960-DAC1-492F-BEE7-194C630A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DEE54-4E81-4665-B971-EAB77BCC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0D23E-3D1B-4D31-B0E3-431594E2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B4D68-FF5A-4221-A556-B3EBF71D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4E59E-9277-45F0-841C-266D683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F35D-4ED3-49B5-8598-BB168424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2062A-CB3F-4D45-B349-A871B049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06D58-EAC0-4AE0-A828-8278109A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5C8A6-C423-453E-A95F-1A7B27A6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D69EE-4FC3-461E-81CA-303F5F45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62F03-66B5-4038-87F8-A5DAB331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4EAAD-AC41-41DC-9F0F-96F39178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D7534-21C5-4596-B80B-49F59CF4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14951-E456-4C7A-ABF4-9872E90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2D96F-CC25-4AAF-AEE8-6260DEC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CDE65-DCCC-4081-A781-4925470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6AEB-1B84-4B4A-880A-D09804E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CB535-0F86-4C12-B60F-E8C878A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BE55C-B7AF-4F08-9576-94A456BF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D19A5-ED1C-4023-8882-33CA3D0D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3FF70-B33C-4E77-95B8-DBEA3561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F4925-D4CB-45AC-81B9-8B670A85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E2C2-274E-4D87-89E1-F1FFCF33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DEBD3-92FA-40B0-A5AC-CA0EA092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4E375-9C9B-418F-AD10-B8CDB4B2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E3BE2-5E94-4338-BE76-CEC2CED0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2BCD3-15CD-4491-A232-9E5E88C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FDF2-F58B-4669-B8C8-9BE71F5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F20E3-9FA6-496B-9F48-05A4DE0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4B86D-F6BB-4F8E-9172-A086206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D503E-80DE-4280-A5DD-2031A64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807C5-298F-4685-B97A-43EC560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F908D-CC76-4808-96AA-F73790B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B5954-C9D5-4FD8-A59B-2EFB76F5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14887-24D2-470A-B8F3-1948DA81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368B4-80F8-4179-81AC-279DDDB0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6B6E4-5A51-43EC-BB5E-58791720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8D27B-F2C8-475F-886E-B4A9F19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4D20-DFF9-4926-9B86-266FE36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3E6D9-8FF6-4A61-8BFD-285FFAA0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9F777-954D-4031-9A86-1D97FCA6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CE621-E429-4A99-B155-4B294B0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BDB26-9156-4DFF-8D0A-EF8AC09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DBF24-525B-4424-9EFB-40A5312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D6F9D-4407-480D-8088-D951616E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EB60F-3B5E-46AE-A19C-5F02109B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88778-834B-420D-A860-5F43C021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6A42E-6E9D-4BE4-B9CB-5944602F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11618-15AB-4052-B3B1-92D0AD36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D506-E015-421E-967A-91C86EFE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4086D-93D6-4620-BB70-77F8B95B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74423-12E3-4D2F-825C-7691DB14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EB5C7-61B8-424D-8514-6F2DE1B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3DFD9-5572-438B-9E02-5505DE70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165C4-D1E4-4979-B55B-D4CF0FAC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48E5D-2E3A-482D-A514-438E9CC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3E039-1596-42BD-9C64-02CEADA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CD058-4DE4-4C4A-8AB1-AC501DD5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41B0A-4635-45BD-AF57-7F7B002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E91B2-2E3F-44D9-8E33-A3036C95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5C84-90B1-49AF-9C39-3C1B571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5DD442-422B-4BE6-838A-AA447611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BA0D0-5FD8-4927-969D-3A14CDE9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B31AA-B956-46D1-8023-D9F6DC8E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D41F8-FE8D-4547-A039-D031CA84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6AD8A-A5D3-4D6B-9EE1-41EE43E5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32D6D-68B2-496F-8EA2-5B119D2B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4B197-011F-4331-90CC-ADE5285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8C26B-D67A-4136-98AA-767E8F0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67E68-A9DA-4E1F-BE43-05F222A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C1435-8CF4-4BF0-806B-FEAE1C1F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AC1B-BCC2-4A0D-BD04-8F5A703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B3898-FA1A-4D5A-A79B-E0005471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96281-235C-4CB7-8321-8DE65078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72ADD7-D1A0-4898-87A8-1D7A4DCA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BE192-2EFF-487A-9B82-6C66884F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97516-7E28-4E0C-AF6D-A9A259D2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5CC14-0C62-448B-A3EA-89C82469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95867D-2D39-4AB3-9F60-9B0D64AD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F55AFA-5260-4A68-ACEA-BD2BF831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0BF10-D51F-4D58-BF86-DD3F7D87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2B3FB-4A16-41ED-99A2-804CF3C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3E0-0D0D-4D1B-B9AB-9994E6A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94DD-A7E7-4D87-95E6-D2625E5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0CD09-2B5C-43FA-B3BD-1558B77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9953E-ECB7-473A-8F83-AADCE1D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539D6-335F-458D-B400-22A9B07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DB28D-05D0-48E7-B5C3-A9DC9C67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A4849-81FA-475D-BC46-A3C707DD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42AA1-B7B6-4100-AFDF-152BDB7D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9BDB33-A9AE-40B4-B5E5-81E60D2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79063-A4C1-4080-A426-6484872F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533A7-CD5B-413C-BC45-9C5D1B96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0E5543-8556-487F-A634-43CE313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A617-5646-4FA4-8910-ABA14A6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1E88A-F2CB-4B0A-8235-601E7D1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8FE0A-E5D1-4AC2-A04F-75EBA52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C5E6A-304C-4C5E-A0D4-A246FCA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3BE3F-3927-4484-AAAF-81B0CA49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1366D-D635-473A-8FA0-A4696D27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C1841-46ED-4F5D-8B06-CA3207E0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1AE90-F2AB-4B66-AA82-181EFA4B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4EE1D-DA7F-4105-853C-FD99F7AF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F3C89-8D3D-4EA9-9980-C3D358A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59CB5-FFAF-46E1-920B-14A6E48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AF14-F240-4B9A-A526-3BAE9B6D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BC4F8-15F0-45DD-9FC6-01DB5945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C19B6C-008A-4B56-B7FE-20FAD763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4367F-2F82-49CD-AFAB-C46470C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079000-3336-4486-A641-4AD2954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DD906-4112-4DCF-9199-92C0C3EC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4A9BC-DD46-4C42-BF20-C3A920A0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9378A-D7DE-4963-8E8B-2479DF1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D6119-4EC5-413A-8AA0-F78064A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32705-BA61-40A4-8F40-5A44035F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BEBBF-28E1-4C8D-BA25-C3167E5E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8885-DA86-43DC-BE95-A286D5F6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09B34-1FC1-4DA2-AF59-9647DAB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CCC1B-A043-4366-B7CF-3CD67A5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C56FB-2424-4A23-BBE6-037C6529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C7892-CF81-48F9-85D4-FF1932EC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AB6C9-C1C8-4AD3-B6D0-B23CD507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E70816-D543-492F-A0AC-EE430C3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4C941-8C72-4097-9742-DCAB249A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3BC7D-8985-47D7-8FAD-EA40AA3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BF098-D61D-4DD7-89E8-313B0286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6C7ED-D5B9-46E9-B209-122FFC5F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4E1F-8C3F-4DD3-B578-6D0F8D1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D98DFF-C472-4009-A8A7-C3A9C7E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1AF27C-1726-4BAA-9863-D53485F4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969EA-B55E-4CBA-935F-D41CD86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5C86B-D06B-40E4-96F9-FCB2380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D6869-37F4-4886-BCA9-6C5EF43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32207-9ED3-40AA-89F6-FDB169F5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39398-D0A0-48B2-9D22-FBB5BA8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D5932-078D-4DB9-8A10-3495200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CDF47-ABA6-4C8C-BBE9-411E466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B80907-3754-4F4E-98DE-8DB8B2E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9168-43BA-4E41-9702-26490346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B806C-BF01-4AF0-9C54-EE02E81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EC4FA-F695-4669-873A-1AC6351A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F67C1-47D5-46B6-A5A7-5EF6F081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CB62EF-49F4-431B-8840-7E53BB9E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7CECC4-DAE9-410E-B530-AFB13E1D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C8625-2FBD-452C-BF51-7129084D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1286F-77FD-470B-9512-03790A63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4502A-DA40-449B-9BAD-4D1C1E7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24DB90-D14C-4ED6-B8FC-C4286DBF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9D54A6-72EE-4CA3-9079-B9E1C40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A967-3189-4BF8-B7D8-80567CE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AE2F2-659F-464C-9E3A-C713AE7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03B8D-2976-4BF3-A3F9-02719B4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A270F-05F5-40A6-96AC-C94C3B5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FDD6DF-99BB-462D-A135-DD04DEA4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1822AE-66ED-402A-8931-002B6BED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261C1B-BAFA-4157-B014-06ADE16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AE65C-5F76-460D-BB4C-C4203B26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2C8BF-F0B8-4B88-98CE-09BC307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AB7DA-2641-4D58-A566-C268B4B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EAB839-146E-414F-A154-56F8180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AFA8-5557-4BC1-AB1C-511225AA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77865A-7B3E-422D-82C0-3BD3950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421BA-8D79-49FA-B5A3-3F74A8E4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E31F0-D46A-4617-B4FA-390CEB9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7C4EB2-9251-4113-BF87-BEA0664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988965-4D10-4E49-B14E-78BCD533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00266-4904-4E40-A568-514EF1D2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D660D1-5220-42A6-9575-A76330B3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53F4B-85CE-4D6A-B1AF-B8BEA932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771025-0748-48B3-A482-D508073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F8D470-19CC-4D24-860E-03405D6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54D4-9EBB-45FC-B61B-986DE46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0B57B0-9F9C-461D-93F0-B3BB123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A6D50F-B6DC-41C7-A2E2-47177FCB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4CA836-541A-420C-AEA8-7A548A1D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CCDAF-CEF3-42DA-8557-E63C8F29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DCF7A0-31AF-400F-9C7B-933F9D64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D9EC08-FBE9-4009-9B3C-CB3F7B9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41D170-2252-4801-BB8E-F23A6720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493C01-51CF-4092-A9A9-9B2132AD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01BDB-1324-41E4-90C5-0A75CF10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AD0052-E8D6-45B5-86E4-AF1B2ADE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E285-A458-4E95-923A-D5BB696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DD4585-3ECA-4C1A-BCBA-0E5A7CC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47B0C2-662F-42DF-924B-25B95FBF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8C95E0-AD4A-46D3-89E5-2AD0860C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AF15E2-AFF3-4FED-B340-3212C5FB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601C41-295B-4119-835E-20EF0CFA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D7F1A3-D579-4F33-AD9B-7412829E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C53BA-ED18-4AD1-BFFF-B8554D7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1C8BBE-514A-4D1D-B16D-77563BD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60ADD0-4AE9-4BB4-9781-3536B57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D3C15-90A3-41EA-9261-726E52BA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ED0-4D19-4CE3-9BF9-86FC138C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EAEB-A091-4B0C-8182-09AA7B8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13324A-7B7F-4E41-9800-3637BC78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D8C2D4-43FB-41B6-A457-C93AB437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4AD700-04F4-42E3-AF6B-641CB53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A7F34E-A5B4-4C23-8CD3-6F320B9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9884B0-B449-468E-A0CF-0A43F8C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E25054-5E1E-4A6D-B0E8-44C37CF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3CA669-7F04-43BB-AB6D-64D83B72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F5CC58-8275-469E-A208-22BBBC9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B2E9E7-E3D4-4BE5-B76B-4734F63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A1CA2-59D0-4FD0-A156-92CCC3B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5138-8501-4201-8E1E-665EB28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41BCFA-C5C5-4B3C-8C55-DF46C0D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E422BD-F005-4C56-A3D9-A475789A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F55AA0-F58D-492B-A1DA-B4BAF60E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E2B382-F298-4F16-9C0F-2837B09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5A05E7-4B17-4E2D-AC09-07DBFDE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182E75-CC27-462B-9746-8AA49BA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4556F7-ED02-4F21-89E6-43857149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7F46E7-BE8C-418A-BF76-0A54EF8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26B903-CEDF-4FFC-AF61-EE9664F9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66C243-D176-4EC6-9478-6A25C2CD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9551-D74D-4FCB-9043-559BFEDC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404AE7-A85E-4CFF-851E-4A0B11FB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817EB3-A2BD-4FCB-B203-0448C39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6C8A8-F678-4F2A-860A-11F8AF48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7CDC6D-B2D2-4862-BF76-DCC76D66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1F4C64-E213-4D90-A35C-80344941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2E9166-7945-4CD7-B03F-CE464093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8BA1D1-AE41-4EE3-89B7-F1CD118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FC8747-0528-4D04-86A2-604E93E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493FE4-81C2-47B9-9EFA-D29C9D08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5C5FB1-7F27-4DEB-AEE7-686B0EC6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07EF-629E-44EE-95C0-1E64097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19250B-ED15-4312-95A7-16C3CDF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64E8A6-4AFA-473B-949E-D98B6A8F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E3E25C-1D34-4E83-8BC1-0876CC6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2C7C4B-36D3-4A90-912C-24061B0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E1B45D-F2B8-4B49-8D2B-F767365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BA29F6-45E1-45FE-9E45-D6F0B968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FA6B82-2542-4B38-B947-92069103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89B687-6D43-4A52-B8F7-5719A69B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2646B8-F4F1-466C-A92A-6B3FFC2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8E7892-AFC9-4639-B324-BB397204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5D5D-F339-4773-9BFC-9D711C7B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1279D0-D3B2-47ED-AB5C-0D5B0C7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84CEF6-A8A6-4706-8E7B-47B280EB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0F72EA-97D8-48C4-82C5-A159D00F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C6612C-2A43-4557-B6B9-702BC61F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3A9B81-DFC5-4706-B1C3-3ECCB5C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9D63EB-E98A-4ACC-81CE-6685628D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256CF6-BA94-4FA3-900E-564C5D5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4D616C-AF0F-4846-AFDC-F5993F41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92D066-6910-48AB-8BC7-FFCE6DE8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531718-DE3B-4FC9-815A-7067E5ED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3FEFB-B8E4-47E0-9700-1C81F554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D27F24-E469-4603-813C-1E42BF7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8894E-7EA8-4A0E-ABEF-5B33F0FE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331338-4551-4286-A6FF-B370204C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CEA39-E7EC-4687-83D6-E8F88EF1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0F4765-6D9D-4ECD-BBD3-FFEDA5A4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DB4D0E-C468-4E75-99A1-F948BF5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45BBF7-AC84-4238-86E4-7577A746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B5365A-0A47-4339-836B-8EA1255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8EE920-19A7-498F-B08B-12F2F7D2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1BA3D2-19DE-4470-9A2B-BFFC9CD6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2D801-6534-4F37-8722-F7827261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E8F4BF-C18C-45BD-98E1-14BE4B9B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DB021E-6DC4-4F65-A43E-E1A154D1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EF219C-73D2-4807-92D6-CF227F8E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1E6E71-1DC4-4C45-834A-DE4AD2AB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4B0AB3-58A5-4170-A5A1-4871AFFF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1966A8-60BD-40DE-9A7A-A70688D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E753CE-ED64-407B-9AD0-559C1A86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9EA9A9-879B-4172-8C55-C404A80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AE9804-D02F-463A-B921-0B34782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BA8C58B-BDC7-464A-930E-A0C5B3A5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CDDE-F313-4547-9C7A-74693FF8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D5D5D3-3923-45F9-AA75-98E4A93D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17F836-CC1C-4E66-8D15-AA27C9A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199BE2-2786-4E77-869E-C55D67C2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1E81-D0A0-47D8-9463-7457DD80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A2D4-277A-4F50-A5F6-A7C6727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925-8978-400B-BBA7-34E4413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55CE-95C0-45ED-B50C-891BC88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F5A2-587C-4CF4-9707-C181FA91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BB8C-B142-4B4D-A374-A3E251A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E29C-66DF-40CA-826B-1749671D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579B-B544-405F-AE80-1439210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A1E2-2944-4226-8AC4-6A5E7118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C3D9-E669-4154-B6DF-7A29AA7F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1133-EB79-459A-9BFF-1B71ABBE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3AFD-4CDD-47A1-B7E7-AD8E4647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F8C3A-419A-4FF1-A87E-EFED39A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574-0B51-418E-A357-BBEB0DF6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91BC5-5D86-4AF8-A1D1-F8A813F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067A-23B6-42C4-96DA-43D2D15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77CC-0E40-48F4-A93C-39B79B0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F1057-4A1E-4346-ACA0-5311C8A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F46F6-2205-4C0A-BD73-960B622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3E892-A24D-4E21-BEB0-C1C0308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19CC-A956-46D7-91FA-2843FEF0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5BB8-1AE0-47D4-820E-7083C54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921D-D58E-4937-B19F-8655497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15CA-7B2F-4DB8-BA76-25EA41C3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DD4-3C78-4ACB-8F08-AD3A678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165D-06A9-498B-A61A-CABBFFC3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B7F11-B208-4601-B58D-C66C296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9F8E3-6561-45DB-B008-DB5E87C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4BDE-BB42-47A8-AC02-5950383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CF91-B27E-4516-A33C-B9977DC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4B713-B5D5-4F3E-B551-C99E43BE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37F3C-8990-4837-A529-7A0E3E8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2E81-BDA2-4A59-8B12-296A30D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0E7AC-AB7E-4816-81A5-A70D252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021A6-0C7C-4730-9CEB-3AACE9E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4B1-12E2-41D1-BE75-542DF7F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CE01F-7DB4-43D1-B19D-AD943C3F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31AA-981B-4CBF-BDDF-CF9F3EAA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E6560-1E49-4C1F-9FB5-C0BCDA50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2A45-C887-4E34-8BFD-F09DFD84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26E1-2107-40C6-8E56-E97DE32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23C64-5838-435D-AC4C-F0236C5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83A2-6E31-4964-82E1-40827EB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CD098-544E-4272-B2D7-4EF4B8FE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B1D4E-5871-4805-93DD-94745DF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E78B0-8756-4C5A-A242-35819D28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962-CA78-4BD1-85BD-341E1857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EBE0B-C57F-4A19-8927-5A478DA5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A7364-3B95-481F-A90C-5C96065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B0F18-A252-43C6-8B0A-2EFCAFB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26E75-DCBD-435E-A056-E2BD002E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501B0-E45C-493F-BD38-347472BD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E754-A6A6-42B5-B796-E62F098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215B9-B6B0-4F34-B0EA-0E61405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D023C-35DE-47E7-A506-D4C38CB4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3AEC3-DCFE-40F3-86E6-D41536A3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0F27-2BA4-4B2C-B080-CBFDC378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366-7420-4763-A3F5-9292FC6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8111-326F-473C-A47E-18C14B90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C1BE0-217F-435F-A593-A72AC4D7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1359-99CF-4BBC-AA58-F2C86D2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D2EB-5058-4CD2-BB61-F3765F70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61D5-EF9F-4C06-A451-30E08F5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D6E5E-A02B-42A4-A73C-4D75524C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42170-E38E-4BE9-A53F-3925542D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706B5-1E41-49B6-971F-E55E23CF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AF5FF-8CD2-4553-B7D5-C455880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3367C-5458-490C-9DB3-99E9B69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0FCD-C94F-4493-B43A-D398C5E6D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B380-F52D-469A-B7CC-53C653046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C34-2B74-4D8B-AFDE-61BEF94C15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F153-1D07-4A8D-ABA5-A68CAA599C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3812-6AC3-4FE2-AF6D-39560DFAC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885-8F06-4A7F-8FE4-4E45CA1A9C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BCC-EBEF-4850-BA8E-52B5DD1E59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0F0-188E-44CC-9842-52CD44C0B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319A-FBB8-461B-92FC-5FBDE3833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4500-DC21-4EF0-B1EB-85488E306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6B2-A3AA-46BA-925B-6766A1FAEF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8FAD-2FAF-46D8-B957-3A4FBC57E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306-2B1E-41EC-9D6F-E702FA78B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BECA-8811-4BB5-89C6-143612778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974-C606-4204-BAEF-BDFE956C1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D7CB-1446-426E-872B-AF82E2F52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280F-072D-4644-A7BB-F36A44696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8DC-382B-4BA8-9F35-705A9DFC7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C23A-BBFD-4524-A074-2C6C2F1C7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1B5-D902-4964-A0A0-B41E5876D1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47AA-D558-4865-97FC-6AA1F314F8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72B-8AA5-4851-B0B1-4F80F0632E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2751-63A3-48D0-B94D-A0943C547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F6D9-42BB-4733-980F-856D05061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E0D8-A3A3-4F39-924B-91FCD98F2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6CD-A040-4019-8FE6-FD04435DE2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100-6537-4F6C-A16E-027C33627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2813-3D97-4BF3-8FB0-576CBCE783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E3D-3C7B-43F8-9A36-F517E0EEB9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CBF7-8BFC-4C89-AE02-7DA54804F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B74-A7EC-4B8F-BBF5-9C79E8E3F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B568-AD84-4667-97C1-EF899313D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5307-CEEB-478F-AC1A-CAA6CFDB2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16F-C707-4E8E-89A9-D8CDA6A25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B143-B563-4C87-8A58-BFC25B046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AF9C-D13A-4272-8E68-D03DF0059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1FD-D5D1-4767-BE08-19169F163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8555-5B1E-4FEF-A547-712E3EBC95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411A-41CA-4548-BF67-BBE65C5FFF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B361-C10E-4F1E-9421-D573135F3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241-D2F2-4B74-8FD4-6FFA130D98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51B-F8E3-4C13-A6A1-C11DA29CEA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6BAD-CD4B-447C-9158-034D857AC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9D9-09B2-4B3E-94EC-A95594238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BC68-2ADF-4E4F-9CF6-367A224648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190-2F24-4D4F-A370-339A4B3047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504-CCF5-4D1B-8526-3F92F0965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F842-BE0E-4FDF-8668-491491EAB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E30-0C9F-47DF-9913-1A8E8CEB5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1DA0-AF36-4CCB-A657-6F071BEA59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47640" y="2428920"/>
            <a:ext cx="6048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6737" descr=""/>
          <p:cNvPicPr/>
          <p:nvPr/>
        </p:nvPicPr>
        <p:blipFill>
          <a:blip r:embed="rId1"/>
          <a:stretch/>
        </p:blipFill>
        <p:spPr>
          <a:xfrm>
            <a:off x="790560" y="2424240"/>
            <a:ext cx="7562880" cy="20095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6738"/>
          <p:cNvSpPr/>
          <p:nvPr/>
        </p:nvSpPr>
        <p:spPr>
          <a:xfrm>
            <a:off x="1333440" y="2973240"/>
            <a:ext cx="70549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6739"/>
          <p:cNvSpPr/>
          <p:nvPr/>
        </p:nvSpPr>
        <p:spPr>
          <a:xfrm>
            <a:off x="1247760" y="3516480"/>
            <a:ext cx="705492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6740"/>
          <p:cNvSpPr/>
          <p:nvPr/>
        </p:nvSpPr>
        <p:spPr>
          <a:xfrm>
            <a:off x="1190520" y="4021200"/>
            <a:ext cx="70549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571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4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4689" descr=""/>
          <p:cNvPicPr/>
          <p:nvPr/>
        </p:nvPicPr>
        <p:blipFill>
          <a:blip r:embed="rId1"/>
          <a:stretch/>
        </p:blipFill>
        <p:spPr>
          <a:xfrm>
            <a:off x="530280" y="714240"/>
            <a:ext cx="7581960" cy="140040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14690" descr=""/>
          <p:cNvPicPr/>
          <p:nvPr/>
        </p:nvPicPr>
        <p:blipFill>
          <a:blip r:embed="rId2"/>
          <a:stretch/>
        </p:blipFill>
        <p:spPr>
          <a:xfrm>
            <a:off x="468360" y="2206800"/>
            <a:ext cx="7562880" cy="142848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4691" descr=""/>
          <p:cNvPicPr/>
          <p:nvPr/>
        </p:nvPicPr>
        <p:blipFill>
          <a:blip r:embed="rId3"/>
          <a:stretch/>
        </p:blipFill>
        <p:spPr>
          <a:xfrm>
            <a:off x="525600" y="3762360"/>
            <a:ext cx="7534080" cy="30384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4692"/>
          <p:cNvSpPr/>
          <p:nvPr/>
        </p:nvSpPr>
        <p:spPr>
          <a:xfrm>
            <a:off x="1042920" y="126828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3"/>
          <p:cNvSpPr/>
          <p:nvPr/>
        </p:nvSpPr>
        <p:spPr>
          <a:xfrm>
            <a:off x="1023840" y="1792440"/>
            <a:ext cx="71294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4"/>
          <p:cNvSpPr/>
          <p:nvPr/>
        </p:nvSpPr>
        <p:spPr>
          <a:xfrm>
            <a:off x="947880" y="324972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5"/>
          <p:cNvSpPr/>
          <p:nvPr/>
        </p:nvSpPr>
        <p:spPr>
          <a:xfrm>
            <a:off x="1042920" y="427824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6"/>
          <p:cNvSpPr/>
          <p:nvPr/>
        </p:nvSpPr>
        <p:spPr>
          <a:xfrm>
            <a:off x="1052640" y="478296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4697"/>
          <p:cNvSpPr/>
          <p:nvPr/>
        </p:nvSpPr>
        <p:spPr>
          <a:xfrm>
            <a:off x="1004760" y="529740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8"/>
          <p:cNvSpPr/>
          <p:nvPr/>
        </p:nvSpPr>
        <p:spPr>
          <a:xfrm>
            <a:off x="985680" y="5897520"/>
            <a:ext cx="712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4699"/>
          <p:cNvSpPr/>
          <p:nvPr/>
        </p:nvSpPr>
        <p:spPr>
          <a:xfrm>
            <a:off x="947880" y="6402240"/>
            <a:ext cx="7129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3665" descr=""/>
          <p:cNvPicPr/>
          <p:nvPr/>
        </p:nvPicPr>
        <p:blipFill>
          <a:blip r:embed="rId1"/>
          <a:stretch/>
        </p:blipFill>
        <p:spPr>
          <a:xfrm>
            <a:off x="487440" y="731880"/>
            <a:ext cx="8001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2641" descr=""/>
          <p:cNvPicPr/>
          <p:nvPr/>
        </p:nvPicPr>
        <p:blipFill>
          <a:blip r:embed="rId1"/>
          <a:stretch/>
        </p:blipFill>
        <p:spPr>
          <a:xfrm>
            <a:off x="585720" y="766800"/>
            <a:ext cx="79344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1617" descr=""/>
          <p:cNvPicPr/>
          <p:nvPr/>
        </p:nvPicPr>
        <p:blipFill>
          <a:blip r:embed="rId1"/>
          <a:stretch/>
        </p:blipFill>
        <p:spPr>
          <a:xfrm>
            <a:off x="547560" y="2138400"/>
            <a:ext cx="7991640" cy="248616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1618"/>
          <p:cNvSpPr/>
          <p:nvPr/>
        </p:nvSpPr>
        <p:spPr>
          <a:xfrm>
            <a:off x="1057320" y="2658960"/>
            <a:ext cx="7593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1619"/>
          <p:cNvSpPr/>
          <p:nvPr/>
        </p:nvSpPr>
        <p:spPr>
          <a:xfrm>
            <a:off x="1019160" y="3192480"/>
            <a:ext cx="7593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1620"/>
          <p:cNvSpPr/>
          <p:nvPr/>
        </p:nvSpPr>
        <p:spPr>
          <a:xfrm>
            <a:off x="1019160" y="3716280"/>
            <a:ext cx="7593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1621"/>
          <p:cNvSpPr/>
          <p:nvPr/>
        </p:nvSpPr>
        <p:spPr>
          <a:xfrm>
            <a:off x="942840" y="4230720"/>
            <a:ext cx="7593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0593" descr=""/>
          <p:cNvPicPr/>
          <p:nvPr/>
        </p:nvPicPr>
        <p:blipFill>
          <a:blip r:embed="rId1"/>
          <a:stretch/>
        </p:blipFill>
        <p:spPr>
          <a:xfrm>
            <a:off x="590400" y="1357200"/>
            <a:ext cx="7963200" cy="41245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0594"/>
          <p:cNvSpPr/>
          <p:nvPr/>
        </p:nvSpPr>
        <p:spPr>
          <a:xfrm>
            <a:off x="1019160" y="187812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5"/>
          <p:cNvSpPr/>
          <p:nvPr/>
        </p:nvSpPr>
        <p:spPr>
          <a:xfrm>
            <a:off x="952560" y="2373480"/>
            <a:ext cx="765648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6"/>
          <p:cNvSpPr/>
          <p:nvPr/>
        </p:nvSpPr>
        <p:spPr>
          <a:xfrm>
            <a:off x="933480" y="297324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597"/>
          <p:cNvSpPr/>
          <p:nvPr/>
        </p:nvSpPr>
        <p:spPr>
          <a:xfrm>
            <a:off x="990720" y="345924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0598"/>
          <p:cNvSpPr/>
          <p:nvPr/>
        </p:nvSpPr>
        <p:spPr>
          <a:xfrm>
            <a:off x="1123920" y="404964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0599"/>
          <p:cNvSpPr/>
          <p:nvPr/>
        </p:nvSpPr>
        <p:spPr>
          <a:xfrm>
            <a:off x="1095480" y="458316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0600"/>
          <p:cNvSpPr/>
          <p:nvPr/>
        </p:nvSpPr>
        <p:spPr>
          <a:xfrm>
            <a:off x="1019160" y="5059440"/>
            <a:ext cx="7656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72520" cy="40003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3419640" y="2762280"/>
            <a:ext cx="63792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5610240" y="2743200"/>
            <a:ext cx="6382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962000" y="3095640"/>
            <a:ext cx="91152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6962760" y="3095640"/>
            <a:ext cx="91116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5676840" y="3419640"/>
            <a:ext cx="6382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2962440" y="3772080"/>
            <a:ext cx="63792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6524640" y="4438800"/>
            <a:ext cx="6382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5457960" y="4762440"/>
            <a:ext cx="63792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390600" y="2119320"/>
            <a:ext cx="8362800" cy="261936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6"/>
          <p:cNvSpPr/>
          <p:nvPr/>
        </p:nvSpPr>
        <p:spPr>
          <a:xfrm>
            <a:off x="6943680" y="2428920"/>
            <a:ext cx="166212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07"/>
          <p:cNvSpPr/>
          <p:nvPr/>
        </p:nvSpPr>
        <p:spPr>
          <a:xfrm>
            <a:off x="7686720" y="3105000"/>
            <a:ext cx="63828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08"/>
          <p:cNvSpPr/>
          <p:nvPr/>
        </p:nvSpPr>
        <p:spPr>
          <a:xfrm>
            <a:off x="4533840" y="4105440"/>
            <a:ext cx="6382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2881" descr=""/>
          <p:cNvPicPr/>
          <p:nvPr/>
        </p:nvPicPr>
        <p:blipFill>
          <a:blip r:embed="rId1"/>
          <a:stretch/>
        </p:blipFill>
        <p:spPr>
          <a:xfrm>
            <a:off x="371520" y="720720"/>
            <a:ext cx="8372520" cy="58388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2"/>
          <p:cNvSpPr/>
          <p:nvPr/>
        </p:nvSpPr>
        <p:spPr>
          <a:xfrm>
            <a:off x="8210520" y="260028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2883"/>
          <p:cNvSpPr/>
          <p:nvPr/>
        </p:nvSpPr>
        <p:spPr>
          <a:xfrm>
            <a:off x="8201160" y="423864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2884"/>
          <p:cNvSpPr/>
          <p:nvPr/>
        </p:nvSpPr>
        <p:spPr>
          <a:xfrm>
            <a:off x="8153280" y="5248440"/>
            <a:ext cx="338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61800" y="909720"/>
            <a:ext cx="8325000" cy="2562120"/>
          </a:xfrm>
          <a:prstGeom prst="rect">
            <a:avLst/>
          </a:prstGeom>
          <a:ln w="0">
            <a:noFill/>
          </a:ln>
        </p:spPr>
      </p:pic>
      <p:pic>
        <p:nvPicPr>
          <p:cNvPr id="1451" name="图片 121858" descr=""/>
          <p:cNvPicPr/>
          <p:nvPr/>
        </p:nvPicPr>
        <p:blipFill>
          <a:blip r:embed="rId2"/>
          <a:stretch/>
        </p:blipFill>
        <p:spPr>
          <a:xfrm>
            <a:off x="376200" y="3700440"/>
            <a:ext cx="8353440" cy="240984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1859"/>
          <p:cNvSpPr/>
          <p:nvPr/>
        </p:nvSpPr>
        <p:spPr>
          <a:xfrm>
            <a:off x="8182080" y="135252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0"/>
          <p:cNvSpPr/>
          <p:nvPr/>
        </p:nvSpPr>
        <p:spPr>
          <a:xfrm>
            <a:off x="8238960" y="4400640"/>
            <a:ext cx="338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0833" descr=""/>
          <p:cNvPicPr/>
          <p:nvPr/>
        </p:nvPicPr>
        <p:blipFill>
          <a:blip r:embed="rId1"/>
          <a:stretch/>
        </p:blipFill>
        <p:spPr>
          <a:xfrm>
            <a:off x="385920" y="928800"/>
            <a:ext cx="8372160" cy="54385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0834"/>
          <p:cNvSpPr/>
          <p:nvPr/>
        </p:nvSpPr>
        <p:spPr>
          <a:xfrm>
            <a:off x="8172360" y="1266840"/>
            <a:ext cx="338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5"/>
          <p:cNvSpPr/>
          <p:nvPr/>
        </p:nvSpPr>
        <p:spPr>
          <a:xfrm>
            <a:off x="8191440" y="461016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9809" descr=""/>
          <p:cNvPicPr/>
          <p:nvPr/>
        </p:nvPicPr>
        <p:blipFill>
          <a:blip r:embed="rId1"/>
          <a:stretch/>
        </p:blipFill>
        <p:spPr>
          <a:xfrm>
            <a:off x="404640" y="1185840"/>
            <a:ext cx="8353440" cy="45054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9810"/>
          <p:cNvSpPr/>
          <p:nvPr/>
        </p:nvSpPr>
        <p:spPr>
          <a:xfrm>
            <a:off x="8238960" y="2266920"/>
            <a:ext cx="338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9811"/>
          <p:cNvSpPr/>
          <p:nvPr/>
        </p:nvSpPr>
        <p:spPr>
          <a:xfrm>
            <a:off x="8191440" y="410544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8785" descr=""/>
          <p:cNvPicPr/>
          <p:nvPr/>
        </p:nvPicPr>
        <p:blipFill>
          <a:blip r:embed="rId1"/>
          <a:stretch/>
        </p:blipFill>
        <p:spPr>
          <a:xfrm>
            <a:off x="376200" y="1114560"/>
            <a:ext cx="8391600" cy="462888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8786"/>
          <p:cNvSpPr/>
          <p:nvPr/>
        </p:nvSpPr>
        <p:spPr>
          <a:xfrm>
            <a:off x="5781600" y="1095480"/>
            <a:ext cx="33804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8787"/>
          <p:cNvSpPr/>
          <p:nvPr/>
        </p:nvSpPr>
        <p:spPr>
          <a:xfrm>
            <a:off x="5753160" y="2190600"/>
            <a:ext cx="338040" cy="29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8788"/>
          <p:cNvSpPr/>
          <p:nvPr/>
        </p:nvSpPr>
        <p:spPr>
          <a:xfrm>
            <a:off x="8238960" y="5067360"/>
            <a:ext cx="33840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7761" descr=""/>
          <p:cNvPicPr/>
          <p:nvPr/>
        </p:nvPicPr>
        <p:blipFill>
          <a:blip r:embed="rId1"/>
          <a:stretch/>
        </p:blipFill>
        <p:spPr>
          <a:xfrm>
            <a:off x="523800" y="1300320"/>
            <a:ext cx="7981920" cy="461952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7762"/>
          <p:cNvSpPr/>
          <p:nvPr/>
        </p:nvSpPr>
        <p:spPr>
          <a:xfrm>
            <a:off x="1467000" y="4983120"/>
            <a:ext cx="6910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7763"/>
          <p:cNvSpPr/>
          <p:nvPr/>
        </p:nvSpPr>
        <p:spPr>
          <a:xfrm>
            <a:off x="1324080" y="5516640"/>
            <a:ext cx="6910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8:31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